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png" ContentType="image/png"/>
  <Override PartName="/ppt/media/image1.png" ContentType="image/png"/>
  <Override PartName="/ppt/media/image2.png" ContentType="image/png"/>
  <Override PartName="/ppt/media/image3.png" ContentType="image/png"/>
  <Override PartName="/ppt/media/image8.jpeg" ContentType="image/jpeg"/>
  <Override PartName="/ppt/media/image12.wmf" ContentType="image/x-wmf"/>
  <Override PartName="/ppt/media/image4.png" ContentType="image/png"/>
  <Override PartName="/ppt/media/image5.jpeg" ContentType="image/jpeg"/>
  <Override PartName="/ppt/media/image7.png" ContentType="image/png"/>
  <Override PartName="/ppt/media/push.wav" ContentType="audio/x-wav"/>
  <Override PartName="/ppt/media/image9.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666B-7F76-4666-8418-90409DBD5B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855E-4ABB-4AA0-A506-6B0E152FB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9C9B-E12B-450D-9D5A-BA7520E57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267C-4230-4179-8BAA-0CD7E5D32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2744-3CA9-40AC-8913-0032095FD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C776-187F-47A5-8C19-AD1A3F559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8E0A-6088-4742-BE0C-0F2CB0149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77BB-2D70-49D7-B65C-C98924465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2928-DA4E-4701-A061-A84BAF7F7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DFEB-A82F-4A35-86FC-BEA7C419D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B12E0-D831-4FFA-8BCB-84D2F86C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FB654-6C26-4716-A218-FAF5A5121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F1D1A-4F02-4D92-B878-448DA6563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24A9E-5FD6-4C0A-B539-F44F2E369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C7FEE-CF6D-4C23-AD1E-CCC3DF6D5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3921F-D8E2-47D9-8D2F-2428D0D66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4CAA7-4671-4C00-BA73-9B01CC3A3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41A52-0E98-4E57-B1A4-1DCAA4839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0B9DF-34EC-45A1-BFCF-D0FA97B17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67AFF-8D92-4C9B-835F-F0C62523D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2F6BE-E430-433E-89C7-55AAEE9D3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BCD49-663E-4C41-8576-F6C490B5D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8F02-385E-4DFB-ACAE-F566616AF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C5BE2-8AA2-4FE1-A8DB-A287F3DE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703E1-B7A7-4840-83D6-A8D2A4F66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55120-4C76-4DD4-B376-C5C26D1AF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33E12-7DE2-4176-9000-BFE57E806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687A75-B4FB-474B-9F3D-A95E648B18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A2CF4-70DA-499B-8053-F429B56CE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FEB05-4AAF-48D0-98C0-1367356D6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6A067-9DB8-4ED7-A37E-46681E22A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14C17-1E83-456C-B407-72CE97722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A08F8-AFEA-4C12-A1AD-66DBFBDB4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7C1AA-6844-490B-9FC4-10838C03D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FBC08-57E6-4C1D-B343-CF825C632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EBE39-F40D-4EB4-B7A6-E59413203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972A7-1E97-4CC1-BD40-9F87CC56A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E6B46-58B0-46C1-ADD4-02BD30F5F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C56CF-AA4B-495B-92BC-8C50DD5F13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3EE62B-9E15-40B0-AEC1-6FCD3A7622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47DFA3-4F53-4E89-957F-6FF454320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DD12A-9198-4D95-9EB4-A11A90EEC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956E0-1B85-4351-8652-57ADB225A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A202-D762-4327-90D4-A558DB645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D80D0-E9A9-46C5-920E-DB51567CB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D2A56-2216-4359-8B6D-06E31296E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B664E-A411-498E-80A9-9FB6A0B15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190BD-2ED4-462D-B88F-356691E0A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0B143-250C-4A37-A0C0-50B9C4713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59FA8-6B2F-48B3-B33F-26DAFCEFE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68F26-AF35-4E6A-8DE9-15471569C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259FEF-C205-4CDF-9D4C-6239646335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970DEE-B353-4BC1-AB87-3A211852D0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D074DC-E86E-4485-84EC-7BBA7C7288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1E5B-2991-4485-8E82-63E929EF3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02B403-E17B-4511-A193-F8DC8F466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25673-0271-4370-A2B4-EF6EBB9AB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5906C-8F14-48C5-B12D-5B1BFDCEC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B8A11-A47B-4417-A259-E5D74A018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0835D8-22F0-4AB0-85C4-D84A6CBCCF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307A5-3312-454C-984D-A89E0CB4F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285ED-F5F0-46D6-A419-0443120BF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41833-5360-4D34-A436-083D39B19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5F108-7E7B-4392-BE36-61461255F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A7E8F9-B3D6-4833-8AFD-0637725585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91A32-693B-4860-89BA-27B8CACF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D1CCBF-F771-4A81-8844-F5A3E8882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CC0090-6616-4A7D-895B-398840F99A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78973-4E59-41DC-B11B-AA50A10E7A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DAF42-C98B-4E60-A10B-A0CCC3E46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9BD00-11BB-42EF-A24D-7A83FC638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60692-E997-4EB9-BDE6-EA0623C0D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0850C-1853-437D-B20A-B929D7131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4682E-E41A-4043-8C95-C028A7B66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041C8-48D3-4A1F-9BA7-3FC2AE58B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57C74-D632-4DCC-924C-4840BE05C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8529-B101-4ED9-AA66-891F69C6C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6F5F1-F5FC-42CA-A7E4-ED0C107A5B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DEDA6-F8F4-4418-98E7-224EA9C778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2C2430-C5E0-4172-A79C-87CDD935D0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968F58-3E87-499C-AE8B-D856268097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873784-B5EA-4221-A360-3D2E29FAC1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1861A-257B-437E-952E-B8A273D09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55ED4E-DD3F-4972-9D14-7C161D518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DC215-B8B2-4107-AB9A-FB4752870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62621-9B73-4A3D-8B5A-033868E04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76205-D901-4E25-9943-EBC6D8A9D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204E-F16B-403B-9B54-B1CD3D2D3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05DCD-192B-44CD-85A8-8456AE587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027AB-23FF-4B5B-87BF-487542BE6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DFBC7-E97A-428C-86DB-6B061FB60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493855-4FB5-45A6-82E0-6F5FB7F1A4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8195AD-D78B-410D-ADC6-0B669D5A9D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8A4FF7-F609-479F-942E-0EF3D59D24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60FB8-332F-4251-8041-29F9311503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470CC9-47A7-465E-8B36-2970DE08E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654ECA-D810-464D-BD52-3789C342C8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9596F-C0EA-4897-AA04-194579FE1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11CBA-CD81-4696-9C76-93CBD340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69C09-F621-4E9E-A688-DF89840F0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8F9B5-CA77-4E3C-BC63-3DA6EEBC4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FF951-4201-4A0A-A322-51BB0ABA1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26C9C0-3408-4E48-8E1F-3EEB7C865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59D70E-77F8-4C2D-8664-0CEE748D1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761B30-AC42-46BF-A516-0A1B38A3C7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951153-7260-445A-B041-FC9B8EE9DF0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E1D8-CD0C-4DA1-9D96-65F2B4EB068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B9C4-A806-4D74-8EF6-2F28B0E2370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B084-1DD1-484D-907F-F8E01A69D4C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BE45-ECA0-4FE1-BEB9-94C2C91F7FA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FE28-1846-4A2D-B260-DBEFCF35FB0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35C4-02E9-4020-B50C-FB04C0522A6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CF3A-549F-439A-A99C-D57589D3849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74C9-D5C8-4A1E-A613-635506607FC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push.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dvocacyinstitute.org/UDL/Educatorfaqs.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755640" y="237960"/>
            <a:ext cx="7937640" cy="22132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pic>
        <p:nvPicPr>
          <p:cNvPr id="379" name="Picture 4" descr="http://t2.gstatic.com/images?q=tbn:2r2ewLRQT3i-VM:http://blog.teenmentalhealth.org/wp-content/uploads/2008/11/brain.jpg&amp;t=1"/>
          <p:cNvPicPr/>
          <p:nvPr/>
        </p:nvPicPr>
        <p:blipFill>
          <a:blip r:embed="rId2"/>
          <a:stretch/>
        </p:blipFill>
        <p:spPr>
          <a:xfrm>
            <a:off x="3048120" y="2438280"/>
            <a:ext cx="304776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iterate type="wd">
                                    <p:tmAbs val="50"/>
                                  </p:iterate>
                                  <p:childTnLst>
                                    <p:audio isNarration="0">
                                      <p:cMediaNode showWhenStopped="1">
                                        <p:cTn/>
                                        <p:tgtEl>
                                          <p:sndTgt r:embed="rId3" name="push.wav"/>
                                        </p:tgtEl>
                                      </p:cMediaNode>
                                    </p:audio>
                                    <p:animEffect filter="blinds(horizontal)" transition="out">
                                      <p:cBhvr additive="repl">
                                        <p:cTn id="6" dur="500"/>
                                        <p:tgtEl>
                                          <p:spTgt spid="377"/>
                                        </p:tgtEl>
                                      </p:cBhvr>
                                    </p:animEffect>
                                    <p:set>
                                      <p:cBhvr>
                                        <p:cTn id="7" dur="1" fill="hold">
                                          <p:stCondLst>
                                            <p:cond delay="499"/>
                                          </p:stCondLst>
                                        </p:cTn>
                                        <p:tgtEl>
                                          <p:spTgt spid="377"/>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9"/>
                                        </p:tgtEl>
                                        <p:attrNameLst>
                                          <p:attrName>style.visibility</p:attrName>
                                        </p:attrNameLst>
                                      </p:cBhvr>
                                      <p:to>
                                        <p:strVal val="visible"/>
                                      </p:to>
                                    </p:set>
                                    <p:animEffect filter="fade" transition="in">
                                      <p:cBhvr additive="repl">
                                        <p:cTn id="12"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838080"/>
            <a:ext cx="75438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UD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niversal Design for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a set of principles for curriculum development that give all individuals equal opportunities to lear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vides a blueprint for creating instructional goals, methods, materials, and assessments that work for everyone--not a single, one-size-fits-all solution but rather flexible approaches that can be customized and adjusted for individual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80">
                                            <p:txEl>
                                              <p:pRg st="0" end="0"/>
                                            </p:txEl>
                                          </p:spTgt>
                                        </p:tgtEl>
                                        <p:attrNameLst>
                                          <p:attrName>style.visibility</p:attrName>
                                        </p:attrNameLst>
                                      </p:cBhvr>
                                      <p:to>
                                        <p:strVal val="visible"/>
                                      </p:to>
                                    </p:set>
                                    <p:animEffect filter="wipe(down)" transition="in">
                                      <p:cBhvr additive="repl">
                                        <p:cTn id="19" dur="500"/>
                                        <p:tgtEl>
                                          <p:spTgt spid="38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380">
                                            <p:txEl>
                                              <p:pRg st="1" end="1"/>
                                            </p:txEl>
                                          </p:spTgt>
                                        </p:tgtEl>
                                        <p:attrNameLst>
                                          <p:attrName>style.visibility</p:attrName>
                                        </p:attrNameLst>
                                      </p:cBhvr>
                                      <p:to>
                                        <p:strVal val="visible"/>
                                      </p:to>
                                    </p:set>
                                    <p:animEffect filter="wipe(down)" transition="in">
                                      <p:cBhvr additive="repl">
                                        <p:cTn id="24" dur="500"/>
                                        <p:tgtEl>
                                          <p:spTgt spid="38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80">
                                            <p:txEl>
                                              <p:pRg st="3" end="3"/>
                                            </p:txEl>
                                          </p:spTgt>
                                        </p:tgtEl>
                                        <p:attrNameLst>
                                          <p:attrName>style.visibility</p:attrName>
                                        </p:attrNameLst>
                                      </p:cBhvr>
                                      <p:to>
                                        <p:strVal val="visible"/>
                                      </p:to>
                                    </p:set>
                                    <p:animEffect filter="wipe(down)" transition="in">
                                      <p:cBhvr additive="repl">
                                        <p:cTn id="29" dur="500"/>
                                        <p:tgtEl>
                                          <p:spTgt spid="38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80">
                                            <p:txEl>
                                              <p:pRg st="5" end="5"/>
                                            </p:txEl>
                                          </p:spTgt>
                                        </p:tgtEl>
                                        <p:attrNameLst>
                                          <p:attrName>style.visibility</p:attrName>
                                        </p:attrNameLst>
                                      </p:cBhvr>
                                      <p:to>
                                        <p:strVal val="visible"/>
                                      </p:to>
                                    </p:set>
                                    <p:animEffect filter="wipe(down)" transition="in">
                                      <p:cBhvr additive="repl">
                                        <p:cTn id="34" dur="500"/>
                                        <p:tgtEl>
                                          <p:spTgt spid="3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609480"/>
            <a:ext cx="7772400" cy="5486400"/>
          </a:xfrm>
          <a:prstGeom prst="rect">
            <a:avLst/>
          </a:prstGeom>
          <a:noFill/>
          <a:ln w="0">
            <a:noFill/>
          </a:ln>
        </p:spPr>
        <p:txBody>
          <a:bodyPr lIns="45720" rIns="45720" anchor="t">
            <a:noAutofit/>
          </a:bodyPr>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come to the classroom with a variety of needs, skills, talents, and interests.</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any learners, the typical is littered with barriers and roadblocks, while supports are relatively few.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ed with an inflexible curriculum, students and teachers are expected to make extraordinary adjustments.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DL turns this scenario around, placing the burden to adapt on the curriculum itself. </a:t>
            </a:r>
            <a:endParaRPr b="0" lang="en-US" sz="2800" spc="-1" strike="noStrike">
              <a:solidFill>
                <a:srgbClr val="000000"/>
              </a:solidFill>
              <a:latin typeface="Lucida Sans Unicode"/>
            </a:endParaRPr>
          </a:p>
          <a:p>
            <a:pPr marL="514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81">
                                            <p:txEl>
                                              <p:pRg st="0" end="0"/>
                                            </p:txEl>
                                          </p:spTgt>
                                        </p:tgtEl>
                                        <p:attrNameLst>
                                          <p:attrName>style.visibility</p:attrName>
                                        </p:attrNameLst>
                                      </p:cBhvr>
                                      <p:to>
                                        <p:strVal val="visible"/>
                                      </p:to>
                                    </p:set>
                                    <p:animEffect filter="wipe(down)" transition="in">
                                      <p:cBhvr additive="repl">
                                        <p:cTn id="41" dur="500"/>
                                        <p:tgtEl>
                                          <p:spTgt spid="3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81">
                                            <p:txEl>
                                              <p:pRg st="1" end="1"/>
                                            </p:txEl>
                                          </p:spTgt>
                                        </p:tgtEl>
                                        <p:attrNameLst>
                                          <p:attrName>style.visibility</p:attrName>
                                        </p:attrNameLst>
                                      </p:cBhvr>
                                      <p:to>
                                        <p:strVal val="visible"/>
                                      </p:to>
                                    </p:set>
                                    <p:animEffect filter="wipe(down)" transition="in">
                                      <p:cBhvr additive="repl">
                                        <p:cTn id="46" dur="500"/>
                                        <p:tgtEl>
                                          <p:spTgt spid="3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81">
                                            <p:txEl>
                                              <p:pRg st="2" end="2"/>
                                            </p:txEl>
                                          </p:spTgt>
                                        </p:tgtEl>
                                        <p:attrNameLst>
                                          <p:attrName>style.visibility</p:attrName>
                                        </p:attrNameLst>
                                      </p:cBhvr>
                                      <p:to>
                                        <p:strVal val="visible"/>
                                      </p:to>
                                    </p:set>
                                    <p:animEffect filter="wipe(down)" transition="in">
                                      <p:cBhvr additive="repl">
                                        <p:cTn id="51" dur="500"/>
                                        <p:tgtEl>
                                          <p:spTgt spid="3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381">
                                            <p:txEl>
                                              <p:pRg st="3" end="3"/>
                                            </p:txEl>
                                          </p:spTgt>
                                        </p:tgtEl>
                                        <p:attrNameLst>
                                          <p:attrName>style.visibility</p:attrName>
                                        </p:attrNameLst>
                                      </p:cBhvr>
                                      <p:to>
                                        <p:strVal val="visible"/>
                                      </p:to>
                                    </p:set>
                                    <p:animEffect filter="wipe(down)" transition="in">
                                      <p:cBhvr additive="repl">
                                        <p:cTn id="56" dur="500"/>
                                        <p:tgtEl>
                                          <p:spTgt spid="3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2" descr=""/>
          <p:cNvPicPr/>
          <p:nvPr/>
        </p:nvPicPr>
        <p:blipFill>
          <a:blip r:embed="rId1"/>
          <a:stretch/>
        </p:blipFill>
        <p:spPr>
          <a:xfrm>
            <a:off x="433440" y="268200"/>
            <a:ext cx="8369280" cy="42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80880" y="762120"/>
            <a:ext cx="8305920" cy="5029200"/>
          </a:xfrm>
          <a:prstGeom prst="rect">
            <a:avLst/>
          </a:prstGeom>
          <a:noFill/>
          <a:ln w="0">
            <a:noFill/>
          </a:ln>
        </p:spPr>
        <p:txBody>
          <a:bodyPr lIns="45720" rIns="45720" anchor="t">
            <a:noAutofit/>
          </a:bodyPr>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thods of presentation to give students with diverse learning styles various ways of acquiring information and knowledge.</a:t>
            </a:r>
            <a:endParaRPr b="0" lang="en-US" sz="2400" spc="-1" strike="noStrike">
              <a:solidFill>
                <a:srgbClr val="000000"/>
              </a:solidFill>
              <a:latin typeface="Lucida Sans Unicode"/>
            </a:endParaRPr>
          </a:p>
          <a:p>
            <a:pPr marL="51444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xpression to provide diverse students with alternatives for demonstrating what they have learned.</a:t>
            </a:r>
            <a:endParaRPr b="0" lang="en-US" sz="24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ngagement to tap into diverse learners' interests, challenge them appropriately, and motivate them to learn. </a:t>
            </a:r>
            <a:endParaRPr b="0" lang="en-US" sz="2400" spc="-1" strike="noStrike">
              <a:solidFill>
                <a:srgbClr val="000000"/>
              </a:solidFill>
              <a:latin typeface="Lucida Sans Unicode"/>
            </a:endParaRPr>
          </a:p>
          <a:p>
            <a:pPr marL="514440" indent="-514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83">
                                            <p:txEl>
                                              <p:pRg st="0" end="0"/>
                                            </p:txEl>
                                          </p:spTgt>
                                        </p:tgtEl>
                                        <p:attrNameLst>
                                          <p:attrName>style.visibility</p:attrName>
                                        </p:attrNameLst>
                                      </p:cBhvr>
                                      <p:to>
                                        <p:strVal val="visible"/>
                                      </p:to>
                                    </p:set>
                                    <p:anim calcmode="lin" valueType="num">
                                      <p:cBhvr additive="base">
                                        <p:cTn id="63" dur="5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383">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7" presetSubtype="4">
                                  <p:stCondLst>
                                    <p:cond delay="0"/>
                                  </p:stCondLst>
                                  <p:childTnLst>
                                    <p:set>
                                      <p:cBhvr>
                                        <p:cTn id="66" dur="1" fill="hold">
                                          <p:stCondLst>
                                            <p:cond delay="0"/>
                                          </p:stCondLst>
                                        </p:cTn>
                                        <p:tgtEl>
                                          <p:spTgt spid="383">
                                            <p:txEl>
                                              <p:pRg st="1" end="1"/>
                                            </p:txEl>
                                          </p:spTgt>
                                        </p:tgtEl>
                                        <p:attrNameLst>
                                          <p:attrName>style.visibility</p:attrName>
                                        </p:attrNameLst>
                                      </p:cBhvr>
                                      <p:to>
                                        <p:strVal val="visible"/>
                                      </p:to>
                                    </p:set>
                                    <p:anim calcmode="lin" valueType="num">
                                      <p:cBhvr additive="base">
                                        <p:cTn id="67" dur="5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383">
                                            <p:txEl>
                                              <p:pRg st="2" end="2"/>
                                            </p:txEl>
                                          </p:spTgt>
                                        </p:tgtEl>
                                        <p:attrNameLst>
                                          <p:attrName>style.visibility</p:attrName>
                                        </p:attrNameLst>
                                      </p:cBhvr>
                                      <p:to>
                                        <p:strVal val="visible"/>
                                      </p:to>
                                    </p:set>
                                    <p:anim calcmode="lin" valueType="num">
                                      <p:cBhvr additive="base">
                                        <p:cTn id="73" dur="5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383">
                                            <p:txEl>
                                              <p:pRg st="4" end="4"/>
                                            </p:txEl>
                                          </p:spTgt>
                                        </p:tgtEl>
                                        <p:attrNameLst>
                                          <p:attrName>style.visibility</p:attrName>
                                        </p:attrNameLst>
                                      </p:cBhvr>
                                      <p:to>
                                        <p:strVal val="visible"/>
                                      </p:to>
                                    </p:set>
                                    <p:anim calcmode="lin" valueType="num">
                                      <p:cBhvr additive="base">
                                        <p:cTn id="79" dur="50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523520"/>
            <a:ext cx="8229600" cy="495324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Administrato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UDL Fact Sheet for Educato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Families</a:t>
            </a:r>
            <a:r>
              <a:rPr b="0" i="1"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English Language Learn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Policymak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AST Questions and Answers on Universal Design for Learning</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tional Universal Design for Learning Task Force </a:t>
            </a:r>
            <a:r>
              <a:rPr b="1" i="1" lang="en-US" sz="2700" spc="-1" strike="noStrike">
                <a:solidFill>
                  <a:srgbClr val="000000"/>
                </a:solidFill>
                <a:latin typeface="Lucida Sans Unicode"/>
              </a:rPr>
              <a:t>PowerPoint™ presentation</a:t>
            </a:r>
            <a:endParaRPr b="0" lang="en-US" sz="27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2" descr=""/>
          <p:cNvPicPr/>
          <p:nvPr/>
        </p:nvPicPr>
        <p:blipFill>
          <a:blip r:embed="rId2"/>
          <a:stretch/>
        </p:blipFill>
        <p:spPr>
          <a:xfrm>
            <a:off x="450720" y="324000"/>
            <a:ext cx="8242560" cy="1285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3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603360" y="237960"/>
            <a:ext cx="7785000" cy="762120"/>
          </a:xfrm>
          <a:prstGeom prst="rect">
            <a:avLst/>
          </a:prstGeom>
          <a:ln w="0">
            <a:noFill/>
          </a:ln>
        </p:spPr>
      </p:pic>
      <p:sp>
        <p:nvSpPr>
          <p:cNvPr id="387" name="PlaceHolder 1"/>
          <p:cNvSpPr>
            <a:spLocks noGrp="1"/>
          </p:cNvSpPr>
          <p:nvPr>
            <p:ph type="subTitle"/>
          </p:nvPr>
        </p:nvSpPr>
        <p:spPr>
          <a:xfrm>
            <a:off x="533520" y="1066320"/>
            <a:ext cx="8153280" cy="5410440"/>
          </a:xfrm>
          <a:prstGeom prst="rect">
            <a:avLst/>
          </a:prstGeom>
          <a:noFill/>
          <a:ln w="0">
            <a:noFill/>
          </a:ln>
        </p:spPr>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essments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 Ms. Garcia’s 6th-grade classroom</a:t>
            </a:r>
            <a:r>
              <a:rPr b="0" lang="en-US" sz="2000" spc="-1" strike="noStrike">
                <a:solidFill>
                  <a:srgbClr val="000000"/>
                </a:solidFill>
                <a:latin typeface="Times New Roman"/>
                <a:ea typeface="Times New Roman"/>
              </a:rPr>
              <a:t>, students are asked to become experts on ancient Mesopotamia and share their knowledge with the class. They are given a variety of choices in how to accomplish this. They take this responsibility very seriously and committed to research and present information to the best of their ability. Suddenly ancient Mesopotamia, a potentially dull and unconnected subject for middle-schoolers, elicits immense enthusiasm.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s work in groups and individually write newspaper articles, write, direct and film television news programs, perform puppet shows and plays, create posters or write research papers, then presented their work to the class. Providing choices in expression gives students more opportunity and incentive to develop expert products, thereby becoming more active as learners.</a:t>
            </a:r>
            <a:br>
              <a:rPr sz="2400"/>
            </a:br>
            <a:endParaRPr b="0" lang="en-US" sz="20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ShockwaveFlash1"/>
          <p:cNvGraphicFramePr/>
          <p:nvPr/>
        </p:nvGraphicFramePr>
        <p:xfrm>
          <a:off x="380880" y="762120"/>
          <a:ext cx="8151840" cy="4876560"/>
        </p:xfrm>
        <a:graphic>
          <a:graphicData uri="http://schemas.openxmlformats.org/presentationml/2006/ole">
            <p:oleObj r:id="rId1" spid="">
              <p:embed/>
              <p:pic>
                <p:nvPicPr>
                  <p:cNvPr id="389" name="ShockwaveFlash1" descr=""/>
                  <p:cNvPicPr/>
                  <p:nvPr/>
                </p:nvPicPr>
                <p:blipFill>
                  <a:blip r:embed="rId2"/>
                  <a:stretch/>
                </p:blipFill>
                <p:spPr>
                  <a:xfrm>
                    <a:off x="380880" y="762120"/>
                    <a:ext cx="8151840" cy="487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advocacyinstitute.org/UDL/resources.shtm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cast.org/teachingeverystudent/ideas/tes/chapter6.cf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13:49Z</dcterms:created>
  <dc:creator>Barbara Kington</dc:creator>
  <dc:description/>
  <dc:language>en-US</dc:language>
  <cp:lastModifiedBy>Barbara Kington</cp:lastModifiedBy>
  <dcterms:modified xsi:type="dcterms:W3CDTF">2010-12-13T06:31:04Z</dcterms:modified>
  <cp:revision>18</cp:revision>
  <dc:subject/>
  <dc:title>UDL  Universal Design for Learning</dc:title>
</cp:coreProperties>
</file>